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D857F7E-B6F0-49CE-A6A2-91B86801B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2DE3A0B-50B2-4B1E-BB9C-FEE336EC3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03A337D-0F0E-401B-9029-DC8F66560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24AC6A0-776A-41CB-BA1F-A2B8272D2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4AE71D4-6701-4EB7-BD5B-44B366322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81EEBB2-E41C-443A-A99A-275DD859F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FB90DBE-081A-4585-A12F-BC96141A6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0E6C92F-467E-4F26-90F5-5F3BFCB72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658A7BF-2607-475B-90C9-B6174BB5B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21A7CD2-A9BC-428F-9E7E-257B11B6D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63CE012-A776-4C07-96EA-7A3E7D3D9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1276B00-EE2A-4F7B-B953-DC9518CAC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0A59D5C-D2FA-4EAB-9EC2-27503A127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7B0AB94-6498-4E5C-ACAE-831926EFE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7165D94-3C07-4469-96DF-A1E515A63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E733823-11DC-4CEE-9D3C-DBF0201ED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CFA7CF5-60E3-40D0-820E-536E10A47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B87D3CD-400B-4180-8242-02DEA4887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632640B-0587-4A52-9918-10DAEA54B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C7739F3-3CD3-4C0D-8623-ABA218B0A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DECFB5E-7747-4F73-88A4-50CC59066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33C97A6-87E8-47A2-BF1A-439CC1CD3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A19F3E9-6210-4EC6-B48F-DD30C7CAF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99CBFB4-DD9C-4EA2-8E53-A025885B7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6B22FF6-98D8-4367-AC1D-A4BD45DD4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4A03128-E455-44D4-8CB0-5D09AB64E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6F9342B-FBD3-4C53-80E8-F19F40ECC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83BA6D2-ABE9-4EF7-9D5B-2F40B3645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7410BD4-CDA6-4F0F-BE71-BC61FCF2A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A742D73-0BE1-47B1-9B6D-79793B82C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13B85C3-72BC-4501-907E-73FB5A9A8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FF37796-E67D-40AD-BF1F-FCD35C394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95E0F7B-58D0-4850-805A-5A124674F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B98020E-3DC4-45B7-9C8A-FD7E2C274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8A8BA12-3D86-41CF-98E7-F8233B55A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7ACFDC9-0C49-4BCC-AAAB-D36AEB406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F194144-01EA-4A83-8260-2A532C078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7248F95-335D-4C57-BB2F-F13826231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B36396D-BE4A-483D-B075-9D82CBEDD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B17838B-975F-4F82-A072-307D46C27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6991C83-4743-4CC9-BC60-61124C112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71DDBF5-BD55-4B13-BEE9-A425842D0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6E26920-C6FE-4BA3-9212-0ECCA2752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F181077-994C-44DB-AF86-4DDED89EE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34B5F37-C72A-4E93-8E9C-31649E600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06B5334-985C-4237-8199-ACE07A5FC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0DEEEC1-E974-41ED-AF8A-DD66DE81D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8C86FCC-BC40-4919-8CBF-011E9CD10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E94DE2D-97E3-4103-8A28-731B105B2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B85A644-DF35-40B6-9BB6-F3B79E8DF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10D385B-B76A-49C8-824D-AD1E15794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2E9A144-9E23-4C41-968E-D450749D4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7614A4E-5EBC-4F39-AE2E-ACC4B7798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ADA06F2-3BC1-424A-95FB-E91866F8B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E8A56AE-3870-47DC-958D-27EC6B74A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2F13578-6CCB-46B4-9019-5CDBEA49C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309A1E7-E094-46DE-BBB7-FD16F4BA7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52BFEFD-1465-41B7-B976-BDB825AC4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78D4A56-0E54-4D6D-8342-9BA218F0B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A9DD13B-4F85-418E-A704-8578BE12C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9706A9D-B2D1-4F90-8887-5C3F44BDC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65EAE61-DE5D-439F-B895-FC75AD35B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CF78667-2974-4171-9B4E-03B909AA2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7C5BAC5-8377-43E6-89B5-21C072345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C410B1E-D027-4E86-A032-FEC6BE292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D50B090-50E0-4E49-96A3-E9363A057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C59231D-7EBC-48B6-8BD7-E6A5E3199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50E01B8-D123-498A-881A-C9775433F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9453C73-463F-4892-B39D-B231C8F35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B0FC1A4-365E-4D42-AA7E-D8803DD49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1774845-7A5C-467B-9392-284CCA9CA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EEC9935-6E21-4086-96C2-E30B5CFE4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5DF8616-54C7-4A34-AED9-972FD38AB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1044706-3646-4D9F-B8DF-7CA4AB0DD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E0BEFC5-CFE6-4BB1-A270-3E8C85D8C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EA8CA71-3625-49CF-9D1F-D4A395C65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58EFC55-A8DB-4FCB-91A1-6C211F3DC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F4B76E7-2E46-46C3-862F-E192AFE40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C1D6CB3-6857-46A5-B036-9DB56E493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94ABE3F-D2BD-463F-9E4E-EF7FCDA76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5213CB8-D655-46D3-82ED-2B9BB9106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2C324F1-43D5-40CC-8DB8-59CBCBF28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B78F1E7-B79A-4AED-86E5-7A9DA9635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08E0B12-B20E-406F-9CA7-4D1E7E6FA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7AD0B2A-D623-49E0-B09C-6E8BC3F28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4467C32-C6B2-487D-AB51-7E5EB265F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9C06590-C6B2-47FB-9090-D74A3D525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649F1A8-6EC6-4753-A3AA-09499D231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AD5BC9C-AFB8-4930-8BFA-B16F7C036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1828800" y="649296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RF-PAI Items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Footer Placeholder 3"/>
          <p:cNvSpPr/>
          <p:nvPr/>
        </p:nvSpPr>
        <p:spPr>
          <a:xfrm>
            <a:off x="4038480" y="6492960"/>
            <a:ext cx="262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sure Ulcers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Footer Placeholder 3"/>
          <p:cNvSpPr/>
          <p:nvPr/>
        </p:nvSpPr>
        <p:spPr>
          <a:xfrm>
            <a:off x="708660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FD11-5D70-43D0-9CAC-B7ACF7E7228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RF-PAI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essure Ulcer Item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, Cont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if the pressure ulcer wa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 on admission and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for location and stage at time of admission and dischar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ation period for pressure ulcer items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 day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port unstageable pressure ulcers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rrent Numbe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ge 2 Pressure Ulcers 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8A Number of Stage 2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42640" y="1598760"/>
            <a:ext cx="75438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number of Stage 2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49200" y="3149640"/>
            <a:ext cx="758988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2 Pressure Ulc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18960" y="15998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al thickn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derm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ing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iny or dry 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llow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l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 or pink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und b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thout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loug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ui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Image of a Stage 2 pressure ulcer."/>
          <p:cNvPicPr/>
          <p:nvPr/>
        </p:nvPicPr>
        <p:blipFill>
          <a:blip r:embed="rId1"/>
          <a:stretch/>
        </p:blipFill>
        <p:spPr>
          <a:xfrm>
            <a:off x="4495680" y="2133720"/>
            <a:ext cx="39196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tage 2 Pressure Ulcers, Cont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Image of a Stage 2 pressure ulcer, presenting as an intact blister."/>
          <p:cNvPicPr/>
          <p:nvPr/>
        </p:nvPicPr>
        <p:blipFill>
          <a:blip r:embed="rId1"/>
          <a:stretch/>
        </p:blipFill>
        <p:spPr>
          <a:xfrm>
            <a:off x="1523880" y="1800360"/>
            <a:ext cx="6667560" cy="3609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48765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lso present as 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ct or open/ ruptu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8A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14280" y="1598400"/>
            <a:ext cx="404352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Stage 2 pressure ulcer from a suspected deep tissue inj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Stage 2 pressure ulcers in 48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skin tear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 burns, Moistur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d Skin Dam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xcoriation in 48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Image of suspected deep tissue injury."/>
          <p:cNvPicPr/>
          <p:nvPr/>
        </p:nvPicPr>
        <p:blipFill>
          <a:blip r:embed="rId1"/>
          <a:stretch/>
        </p:blipFill>
        <p:spPr>
          <a:xfrm>
            <a:off x="5364000" y="3886200"/>
            <a:ext cx="252756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Image of a Stage 2 pressure ulcer."/>
          <p:cNvPicPr/>
          <p:nvPr/>
        </p:nvPicPr>
        <p:blipFill>
          <a:blip r:embed="rId2"/>
          <a:srcRect l="0" t="0" r="0" b="35483"/>
          <a:stretch/>
        </p:blipFill>
        <p:spPr>
          <a:xfrm>
            <a:off x="5029200" y="1523880"/>
            <a:ext cx="319896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14280" y="1598760"/>
            <a:ext cx="7320240" cy="28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Image of item 48A on the IRF-PAI item set, documenting the number of Stage 2 pressure ulcers on Admission and Discharge. The field for Admission is emphasized."/>
          <p:cNvPicPr/>
          <p:nvPr/>
        </p:nvPicPr>
        <p:blipFill>
          <a:blip r:embed="rId1"/>
          <a:stretch/>
        </p:blipFill>
        <p:spPr>
          <a:xfrm>
            <a:off x="1523880" y="3730680"/>
            <a:ext cx="6865920" cy="993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5181480" y="3875040"/>
            <a:ext cx="1828800" cy="849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Image of item 48A on the IRF-PAI item set, documenting the number of Stage 2 pressure ulcers on Admission and Discharge. The field for Discharge is emphasized."/>
          <p:cNvPicPr/>
          <p:nvPr/>
        </p:nvPicPr>
        <p:blipFill>
          <a:blip r:embed="rId1"/>
          <a:stretch/>
        </p:blipFill>
        <p:spPr>
          <a:xfrm>
            <a:off x="1409760" y="3813120"/>
            <a:ext cx="6856200" cy="990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14280" y="1598400"/>
            <a:ext cx="732024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6324480" y="3809880"/>
            <a:ext cx="194148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s 48B and C</a:t>
            </a:r>
            <a:br>
              <a:rPr sz="5400"/>
            </a:b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umber of Stage 3 and 4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 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s 48B and 48C Number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 or 4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19320" y="1598400"/>
            <a:ext cx="68580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the number of Stage 3 or 4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Image of item 48B on the IRF-PAI item set, documenting the number of Stage 3 pressure ulcers on Admission and Discharge."/>
          <p:cNvPicPr/>
          <p:nvPr/>
        </p:nvPicPr>
        <p:blipFill>
          <a:blip r:embed="rId1"/>
          <a:stretch/>
        </p:blipFill>
        <p:spPr>
          <a:xfrm>
            <a:off x="1447920" y="3276720"/>
            <a:ext cx="682308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Image of item 48C on the IRF-PAI item set, documenting the number of Stage 4 pressure ulcers on Admission and Discharge."/>
          <p:cNvPicPr/>
          <p:nvPr/>
        </p:nvPicPr>
        <p:blipFill>
          <a:blip r:embed="rId2"/>
          <a:stretch/>
        </p:blipFill>
        <p:spPr>
          <a:xfrm>
            <a:off x="1981080" y="4495680"/>
            <a:ext cx="6986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9320" y="1598400"/>
            <a:ext cx="72388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Pressure Ulcers covered basic concepts associated with pressure ulcers and other skin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focuses on assessment guidelines and coding of Pressure Ulcer items in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3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taneo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 may b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bone, tend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uscl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may be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obscur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of tissue lo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undermining and tunne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Image of a Stage 3 pressure ulcer."/>
          <p:cNvPicPr/>
          <p:nvPr/>
        </p:nvPicPr>
        <p:blipFill>
          <a:blip r:embed="rId1"/>
          <a:stretch/>
        </p:blipFill>
        <p:spPr>
          <a:xfrm>
            <a:off x="5791320" y="1981080"/>
            <a:ext cx="280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4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3920" y="1598760"/>
            <a:ext cx="7548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sed bon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donor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or eschar ma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presen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some par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 wound b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mining and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Image of a Stage 4 pressure ulcer with undermining and tunneling."/>
          <p:cNvPicPr/>
          <p:nvPr/>
        </p:nvPicPr>
        <p:blipFill>
          <a:blip r:embed="rId1"/>
          <a:stretch/>
        </p:blipFill>
        <p:spPr>
          <a:xfrm>
            <a:off x="5486400" y="1981080"/>
            <a:ext cx="3305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mage of item 48C on the IRF-PAI item set, documenting the number of Stage 4 pressure ulcers on Admission and Discharge. The field for Admission is emphasized and coded zero."/>
          <p:cNvPicPr/>
          <p:nvPr/>
        </p:nvPicPr>
        <p:blipFill>
          <a:blip r:embed="rId1"/>
          <a:stretch/>
        </p:blipFill>
        <p:spPr>
          <a:xfrm>
            <a:off x="1905120" y="4848120"/>
            <a:ext cx="5867280" cy="10954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4280" y="1598400"/>
            <a:ext cx="732024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and 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Image of item 48B on the IRF-PAI item set, documenting the number of Stage 3 pressure ulcers on Admission and Discharge. The field for Admission is emphasized and coded one."/>
          <p:cNvPicPr/>
          <p:nvPr/>
        </p:nvPicPr>
        <p:blipFill>
          <a:blip r:embed="rId2"/>
          <a:stretch/>
        </p:blipFill>
        <p:spPr>
          <a:xfrm>
            <a:off x="1219320" y="3476520"/>
            <a:ext cx="5614920" cy="10670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0"/>
          <p:cNvSpPr/>
          <p:nvPr/>
        </p:nvSpPr>
        <p:spPr>
          <a:xfrm>
            <a:off x="4173480" y="34876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014800" y="48592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18960" y="1598400"/>
            <a:ext cx="701028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or 4 pressure 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Image of item 48C on the IRF-PAI item set, documenting the number of Stage 4 pressure ulcers on Admission and Discharge. The field for Discharge is emphasized and coded zero."/>
          <p:cNvPicPr/>
          <p:nvPr/>
        </p:nvPicPr>
        <p:blipFill>
          <a:blip r:embed="rId1"/>
          <a:stretch/>
        </p:blipFill>
        <p:spPr>
          <a:xfrm>
            <a:off x="2286000" y="4648320"/>
            <a:ext cx="5638680" cy="1023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Image of item 48B on the IRF-PAI item set, documenting the number of Stage 3 pressure ulcers on Admission and Discharge. The field for Discharge is emphasized and coded one."/>
          <p:cNvPicPr/>
          <p:nvPr/>
        </p:nvPicPr>
        <p:blipFill>
          <a:blip r:embed="rId2"/>
          <a:stretch/>
        </p:blipFill>
        <p:spPr>
          <a:xfrm>
            <a:off x="1371600" y="3505320"/>
            <a:ext cx="5535720" cy="838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0"/>
          <p:cNvSpPr/>
          <p:nvPr/>
        </p:nvSpPr>
        <p:spPr>
          <a:xfrm>
            <a:off x="5410080" y="3427560"/>
            <a:ext cx="158292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6313320" y="4645080"/>
            <a:ext cx="158436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1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dmission, one pressure ulcer w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d and documented in the patient’s medical rec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noted to be a full thickness ulcer with no exposure of bone, tendon 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ther pressure ulcers were docum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1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18960" y="1598760"/>
            <a:ext cx="75438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 48B, Stage 3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s 48A and C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"/>
          <p:cNvGrpSpPr/>
          <p:nvPr/>
        </p:nvGrpSpPr>
        <p:grpSpPr>
          <a:xfrm>
            <a:off x="1300320" y="4038480"/>
            <a:ext cx="6472080" cy="914400"/>
            <a:chOff x="1300320" y="4038480"/>
            <a:chExt cx="6472080" cy="914400"/>
          </a:xfrm>
        </p:grpSpPr>
        <p:pic>
          <p:nvPicPr>
            <p:cNvPr id="162" name="Picture 3" descr=""/>
            <p:cNvPicPr/>
            <p:nvPr/>
          </p:nvPicPr>
          <p:blipFill>
            <a:blip r:embed="rId1"/>
            <a:srcRect l="2377" t="53194" r="0" b="34576"/>
            <a:stretch/>
          </p:blipFill>
          <p:spPr>
            <a:xfrm>
              <a:off x="1300320" y="4124160"/>
              <a:ext cx="6472080" cy="828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3" name="TextBox 7"/>
            <p:cNvSpPr/>
            <p:nvPr/>
          </p:nvSpPr>
          <p:spPr>
            <a:xfrm>
              <a:off x="5226120" y="403848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4" name="Group 4"/>
          <p:cNvGrpSpPr/>
          <p:nvPr/>
        </p:nvGrpSpPr>
        <p:grpSpPr>
          <a:xfrm>
            <a:off x="1300320" y="4876920"/>
            <a:ext cx="6472080" cy="914400"/>
            <a:chOff x="1300320" y="4876920"/>
            <a:chExt cx="6472080" cy="914400"/>
          </a:xfrm>
        </p:grpSpPr>
        <p:pic>
          <p:nvPicPr>
            <p:cNvPr id="165" name="Picture 3" descr="Image of item 48C on the IRF-PAI item set, documenting the number of Stage 4 pressure ulcers on Admission and Discharge. The field for Admission is coded zero."/>
            <p:cNvPicPr/>
            <p:nvPr/>
          </p:nvPicPr>
          <p:blipFill>
            <a:blip r:embed="rId2"/>
            <a:srcRect l="2377" t="87780" r="0" b="0"/>
            <a:stretch/>
          </p:blipFill>
          <p:spPr>
            <a:xfrm>
              <a:off x="1300320" y="4952880"/>
              <a:ext cx="6472080" cy="838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6" name="TextBox 8"/>
            <p:cNvSpPr/>
            <p:nvPr/>
          </p:nvSpPr>
          <p:spPr>
            <a:xfrm>
              <a:off x="5226120" y="487692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7" name="Group 1"/>
          <p:cNvGrpSpPr/>
          <p:nvPr/>
        </p:nvGrpSpPr>
        <p:grpSpPr>
          <a:xfrm>
            <a:off x="1295280" y="3200400"/>
            <a:ext cx="6477120" cy="914400"/>
            <a:chOff x="1295280" y="3200400"/>
            <a:chExt cx="6477120" cy="914400"/>
          </a:xfrm>
        </p:grpSpPr>
        <p:pic>
          <p:nvPicPr>
            <p:cNvPr id="168" name="Picture 2" descr=""/>
            <p:cNvPicPr/>
            <p:nvPr/>
          </p:nvPicPr>
          <p:blipFill>
            <a:blip r:embed="rId3"/>
            <a:srcRect l="0" t="13340" r="2383" b="13340"/>
            <a:stretch/>
          </p:blipFill>
          <p:spPr>
            <a:xfrm>
              <a:off x="1295280" y="3247920"/>
              <a:ext cx="6477120" cy="866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9" name="TextBox 9"/>
            <p:cNvSpPr/>
            <p:nvPr/>
          </p:nvSpPr>
          <p:spPr>
            <a:xfrm>
              <a:off x="5257800" y="320040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2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8960" y="1598400"/>
            <a:ext cx="69339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a patient has one pressure ulcer that is documented in the medical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sure ulcer is covered with hard black necrotic t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2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8960" y="1598400"/>
            <a:ext cx="75438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ressure ulcer is unstage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hould not be included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"/>
          <p:cNvGrpSpPr/>
          <p:nvPr/>
        </p:nvGrpSpPr>
        <p:grpSpPr>
          <a:xfrm>
            <a:off x="1798560" y="2971800"/>
            <a:ext cx="5211720" cy="743040"/>
            <a:chOff x="1798560" y="2971800"/>
            <a:chExt cx="5211720" cy="743040"/>
          </a:xfrm>
        </p:grpSpPr>
        <p:pic>
          <p:nvPicPr>
            <p:cNvPr id="175" name="Picture 1" descr="Image of item 48A on the IRF-PAI item set, documenting the number of Stage 2 pressure ulcers on Admission and Discharge. The field for Admission and the field for Discharge are coded zero."/>
            <p:cNvPicPr/>
            <p:nvPr/>
          </p:nvPicPr>
          <p:blipFill>
            <a:blip r:embed="rId1"/>
            <a:stretch/>
          </p:blipFill>
          <p:spPr>
            <a:xfrm>
              <a:off x="1798560" y="3052440"/>
              <a:ext cx="5211720" cy="6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Box 4"/>
            <p:cNvSpPr/>
            <p:nvPr/>
          </p:nvSpPr>
          <p:spPr>
            <a:xfrm>
              <a:off x="507708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632736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78" name="Group 2"/>
          <p:cNvGrpSpPr/>
          <p:nvPr/>
        </p:nvGrpSpPr>
        <p:grpSpPr>
          <a:xfrm>
            <a:off x="1798560" y="3925800"/>
            <a:ext cx="5211720" cy="739800"/>
            <a:chOff x="1798560" y="3925800"/>
            <a:chExt cx="5211720" cy="739800"/>
          </a:xfrm>
        </p:grpSpPr>
        <p:pic>
          <p:nvPicPr>
            <p:cNvPr id="179" name="Picture 2" descr=""/>
            <p:cNvPicPr/>
            <p:nvPr/>
          </p:nvPicPr>
          <p:blipFill>
            <a:blip r:embed="rId2"/>
            <a:stretch/>
          </p:blipFill>
          <p:spPr>
            <a:xfrm>
              <a:off x="1798560" y="3967200"/>
              <a:ext cx="521172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15"/>
            <p:cNvSpPr/>
            <p:nvPr/>
          </p:nvSpPr>
          <p:spPr>
            <a:xfrm>
              <a:off x="507708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1" name="TextBox 16"/>
            <p:cNvSpPr/>
            <p:nvPr/>
          </p:nvSpPr>
          <p:spPr>
            <a:xfrm>
              <a:off x="632736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2" name="Group 3"/>
          <p:cNvGrpSpPr/>
          <p:nvPr/>
        </p:nvGrpSpPr>
        <p:grpSpPr>
          <a:xfrm>
            <a:off x="1798560" y="4910040"/>
            <a:ext cx="5211720" cy="725760"/>
            <a:chOff x="1798560" y="4910040"/>
            <a:chExt cx="5211720" cy="725760"/>
          </a:xfrm>
        </p:grpSpPr>
        <p:pic>
          <p:nvPicPr>
            <p:cNvPr id="183" name="Picture 3" descr=""/>
            <p:cNvPicPr/>
            <p:nvPr/>
          </p:nvPicPr>
          <p:blipFill>
            <a:blip r:embed="rId3"/>
            <a:stretch/>
          </p:blipFill>
          <p:spPr>
            <a:xfrm>
              <a:off x="1798560" y="4953600"/>
              <a:ext cx="5211720" cy="68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17"/>
            <p:cNvSpPr/>
            <p:nvPr/>
          </p:nvSpPr>
          <p:spPr>
            <a:xfrm>
              <a:off x="507708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5" name="TextBox 18"/>
            <p:cNvSpPr/>
            <p:nvPr/>
          </p:nvSpPr>
          <p:spPr>
            <a:xfrm>
              <a:off x="632736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9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sening in Pressure Ulcer Status Since Admission</a:t>
            </a:r>
            <a:br>
              <a:rPr sz="4800"/>
            </a:br>
            <a:br>
              <a:rPr sz="48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Pressur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lcer Status Since Ad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42640" y="1598760"/>
            <a:ext cx="708660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the number of current pressure ulcers at discharge that that have worsened since ad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An image of the description and fields for item 49 in the IRF-PAI item set."/>
          <p:cNvPicPr/>
          <p:nvPr/>
        </p:nvPicPr>
        <p:blipFill>
          <a:blip r:embed="rId1"/>
          <a:stretch/>
        </p:blipFill>
        <p:spPr>
          <a:xfrm>
            <a:off x="1703520" y="2895480"/>
            <a:ext cx="6145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523880"/>
            <a:ext cx="716256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essure ulcer items that are documented in the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guidelines for assessing and coding each i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the IRF-PAI pressure ulcer items correctly and accu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sure Ulcer Stat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43000" y="1598400"/>
            <a:ext cx="68580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cludes pressure ulcers at discharge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a less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erical s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Image of a pair of hands pulling a medical record from a shelf of records."/>
          <p:cNvPicPr/>
          <p:nvPr/>
        </p:nvPicPr>
        <p:blipFill>
          <a:blip r:embed="rId1"/>
          <a:stretch/>
        </p:blipFill>
        <p:spPr>
          <a:xfrm>
            <a:off x="5407200" y="2198520"/>
            <a:ext cx="25905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16080" y="1600200"/>
            <a:ext cx="7547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be easier to assess worsening status and to code these items if a facility documents and tracks pressure ulcer status on a routine b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Image of two clinicians reviewing a patient's medical record."/>
          <p:cNvPicPr/>
          <p:nvPr/>
        </p:nvPicPr>
        <p:blipFill>
          <a:blip r:embed="rId1"/>
          <a:stretch/>
        </p:blipFill>
        <p:spPr>
          <a:xfrm>
            <a:off x="3444840" y="3124080"/>
            <a:ext cx="341316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pressure ulcer that was unstageable at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onsider it to be worse at discharge.  If it becomes stageable, consider it as present on admission.  Code at the stage when it first became stage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worsens after it becomes stageable, it should be coded as wors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 that is covered in necrotic tiss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annot be sta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, the pressure ulcer is revealed to be a Stage 4 pressure ulc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stageable pressure ulcer that becomes unstageable since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due to Slough or Eschar, do not code as worsen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and then is debrided so it can be staged, compare its stage before and after it was unstageable. If the stage has worsened, code it as worsen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Stage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 slough covers much of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ulcer is debrided and found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 Stage 4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A Stage 2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8960" y="1598760"/>
            <a:ext cx="6629400" cy="26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2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2 ulcers are present, are new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" descr="Image of item 49A on the IRF-PAI item set, documenting the number of current Stage 2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1880" y="4572000"/>
            <a:ext cx="653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B Stage 3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18960" y="1598400"/>
            <a:ext cx="7086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3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3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Image of item 49B on the IRF-PAI item set, documenting the number of current Stage 3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24280"/>
            <a:ext cx="6577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C Stage 4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218960" y="1598400"/>
            <a:ext cx="70102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4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4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" descr="Image of item 49C on the IRF-PAI item set, documenting the number of current Stage 4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92680"/>
            <a:ext cx="66056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’s admission assessment documented a Stage 2 pressure ulc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right ischial tubero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the pressure ulcer has deteriorated to a Stage 3 pressure ul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no other pressure ulcers at ad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9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Pressure Ulcer I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F-PAI Pressure Ulcer I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8.  Current Number of Unheal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at Each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9.  Worsening in Pressure Ulc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50.  Healed Pressure Ul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19320" y="1598760"/>
            <a:ext cx="73152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 49B, Stage 3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s 49A and 49C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447920" y="3220920"/>
            <a:ext cx="6521400" cy="2036880"/>
            <a:chOff x="1447920" y="3220920"/>
            <a:chExt cx="6521400" cy="2036880"/>
          </a:xfrm>
        </p:grpSpPr>
        <p:pic>
          <p:nvPicPr>
            <p:cNvPr id="218" name="Picture 1" descr=""/>
            <p:cNvPicPr/>
            <p:nvPr/>
          </p:nvPicPr>
          <p:blipFill>
            <a:blip r:embed="rId1"/>
            <a:stretch/>
          </p:blipFill>
          <p:spPr>
            <a:xfrm>
              <a:off x="1447920" y="3276000"/>
              <a:ext cx="6521400" cy="1981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19" name="TextBox 2"/>
            <p:cNvSpPr/>
            <p:nvPr/>
          </p:nvSpPr>
          <p:spPr>
            <a:xfrm>
              <a:off x="6480360" y="380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0" name="TextBox 6"/>
            <p:cNvSpPr/>
            <p:nvPr/>
          </p:nvSpPr>
          <p:spPr>
            <a:xfrm>
              <a:off x="6480360" y="322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1" name="TextBox 7"/>
            <p:cNvSpPr/>
            <p:nvPr/>
          </p:nvSpPr>
          <p:spPr>
            <a:xfrm>
              <a:off x="6480360" y="441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50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ealed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50 Healed Pressure Ulc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142640" y="1598760"/>
            <a:ext cx="746748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any unhealed pressure ulcers were present on admission (Item 50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, the number of Stage 2, 3, and 4 pressure ulcers that have completely closed since admission (Items 50B, C, and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healed pressure ulcer” is one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epitheli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ed completely with epithelial tissue or resurfaced with new skin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 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continues to have some surface disco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reverse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A Coding Instru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19320" y="1598760"/>
            <a:ext cx="7315200" cy="9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50A. Unhealed Pressur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cers Present on Admi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" descr="Image of item 50A Were pressure ulcers present on admission? on the IRF-PAI item set."/>
          <p:cNvPicPr/>
          <p:nvPr/>
        </p:nvPicPr>
        <p:blipFill>
          <a:blip r:embed="rId1"/>
          <a:stretch/>
        </p:blipFill>
        <p:spPr>
          <a:xfrm>
            <a:off x="2111400" y="2941560"/>
            <a:ext cx="5280120" cy="746280"/>
          </a:xfrm>
          <a:prstGeom prst="rect">
            <a:avLst/>
          </a:prstGeom>
          <a:ln w="0">
            <a:noFill/>
          </a:ln>
        </p:spPr>
      </p:pic>
      <p:sp>
        <p:nvSpPr>
          <p:cNvPr id="230" name="Content Placeholder 2"/>
          <p:cNvSpPr/>
          <p:nvPr/>
        </p:nvSpPr>
        <p:spPr>
          <a:xfrm>
            <a:off x="1219320" y="4038480"/>
            <a:ext cx="3504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0. 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                    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98480" indent="-45540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p Items 50B-D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Content Placeholder 3"/>
          <p:cNvSpPr/>
          <p:nvPr/>
        </p:nvSpPr>
        <p:spPr>
          <a:xfrm>
            <a:off x="4572000" y="4038480"/>
            <a:ext cx="4343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1. Yes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Items 50B-D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50B, 50C and 50D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ding Instruction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219320" y="159840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ms 50B, C and D. Stage 2, 3 or 4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sure Ulcers on Admission That Have Hea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pressure ulcers at that stag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admission which have completely closed at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non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" descr="Image of items 50B Stage 2, 50C Stage 3, and 50D Stage 4 of the IR-PAI item set. This indicates the number of pressure ulcers on admission that have healed."/>
          <p:cNvPicPr/>
          <p:nvPr/>
        </p:nvPicPr>
        <p:blipFill>
          <a:blip r:embed="rId1"/>
          <a:stretch/>
        </p:blipFill>
        <p:spPr>
          <a:xfrm>
            <a:off x="3467160" y="4049640"/>
            <a:ext cx="4914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one Stage 2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ischarge, the ulcer is heal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s 50B, C, and D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219320" y="1598400"/>
            <a:ext cx="73152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B.  Stage 2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press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 that hea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C.  Stage 3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D.  Stage 4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600200" y="3936960"/>
            <a:ext cx="6019920" cy="1854360"/>
            <a:chOff x="1600200" y="3936960"/>
            <a:chExt cx="6019920" cy="1854360"/>
          </a:xfrm>
        </p:grpSpPr>
        <p:pic>
          <p:nvPicPr>
            <p:cNvPr id="240" name="Picture 1" descr=""/>
            <p:cNvPicPr/>
            <p:nvPr/>
          </p:nvPicPr>
          <p:blipFill>
            <a:blip r:embed="rId1"/>
            <a:stretch/>
          </p:blipFill>
          <p:spPr>
            <a:xfrm>
              <a:off x="1600200" y="3936960"/>
              <a:ext cx="601992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2"/>
            <p:cNvSpPr/>
            <p:nvPr/>
          </p:nvSpPr>
          <p:spPr>
            <a:xfrm>
              <a:off x="6180120" y="395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2" name="TextBox 6"/>
            <p:cNvSpPr/>
            <p:nvPr/>
          </p:nvSpPr>
          <p:spPr>
            <a:xfrm>
              <a:off x="6180120" y="4491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3" name="TextBox 7"/>
            <p:cNvSpPr/>
            <p:nvPr/>
          </p:nvSpPr>
          <p:spPr>
            <a:xfrm>
              <a:off x="6180120" y="5024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ce of Clinical Assess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lete and ongoing skin assess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d by clinical standards is ess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ssessment, which identifies and evaluates all areas at risk for constant pressure and determines the etiology of all skin ulcers and skin conditions/problems, should direct the appropriate skin management interven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 of Pressure Ulcer items in the IRF-PAI does not replace this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</a:t>
            </a:r>
            <a:br>
              <a:rPr sz="5400"/>
            </a:b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rent Number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healed Pressure Ulc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Each Stage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48 Current Number of Unhealed Pressure Ulcers at Each St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2640" y="1598400"/>
            <a:ext cx="7543800" cy="10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curr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unhealed pressure ulcers at Stages 2, 3 and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95280" y="2917800"/>
            <a:ext cx="5211720" cy="663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Image of item 48B on the IRF-PAI item set, documenting the number of Stage 3 pressure ulcers on Admission and Discharge."/>
          <p:cNvPicPr/>
          <p:nvPr/>
        </p:nvPicPr>
        <p:blipFill>
          <a:blip r:embed="rId2"/>
          <a:stretch/>
        </p:blipFill>
        <p:spPr>
          <a:xfrm>
            <a:off x="2271600" y="3801960"/>
            <a:ext cx="5173920" cy="69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Image of item 48C on the IRF-PAI item set, documenting the number of Stage 4 pressure ulcers on Admission and Discharge."/>
          <p:cNvPicPr/>
          <p:nvPr/>
        </p:nvPicPr>
        <p:blipFill>
          <a:blip r:embed="rId3"/>
          <a:stretch/>
        </p:blipFill>
        <p:spPr>
          <a:xfrm>
            <a:off x="3352680" y="4724280"/>
            <a:ext cx="51818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ing Defini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has adap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007 NPUAP defini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ategories of stag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:  www.npuap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diagrams of ulc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s can be download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ducational 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age of the National Pressure Ulcer Advisory Panel logo. Reproduced by permission."/>
          <p:cNvPicPr/>
          <p:nvPr/>
        </p:nvPicPr>
        <p:blipFill>
          <a:blip r:embed="rId1"/>
          <a:srcRect l="3892" t="0" r="67460" b="0"/>
          <a:stretch/>
        </p:blipFill>
        <p:spPr>
          <a:xfrm>
            <a:off x="5638680" y="3124080"/>
            <a:ext cx="2878200" cy="17384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07" name="TextBox 1"/>
          <p:cNvSpPr/>
          <p:nvPr/>
        </p:nvSpPr>
        <p:spPr>
          <a:xfrm>
            <a:off x="5636880" y="4865760"/>
            <a:ext cx="21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d with permission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curr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unheal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ead-to-toe assessment of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sual inspection and palpation to identify appropriate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wounds that are the result of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deepest anatomical stage of each ul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reverse st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07-05-20T22:53:41Z</cp:lastPrinted>
  <dcterms:modified xsi:type="dcterms:W3CDTF">2012-05-14T13:15:57Z</dcterms:modified>
  <cp:revision>1302</cp:revision>
  <dc:subject>MDS Training Materials</dc:subject>
  <dc:title>Section M Skin Condi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302051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